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845-2EBE-4412-9B05-37A72618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EDA-BC27-4085-8592-C8B78139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63E-9571-4EC8-B7B2-98A6C1E8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8E4E-7434-4351-8495-D0901C4E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CEA-3ECB-4DC4-80EC-8AE24657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E46-7703-4009-904B-66E199AA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E81-CFC4-4A1C-A996-AF2DD8C6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259-BC60-4328-8A32-4F9E91F8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B00-2AB0-48B2-B323-38E5AD29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0B33-8CD3-4002-9496-5A5DCDDC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F64-B408-4930-A96A-4E564055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B20-031B-489E-AA38-B1BC5583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1011-DCFF-45C8-961D-B75E86356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4114800" cy="82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سمعـتُ نداءَك يا ربي يُجلجلُ في أعما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صَدىً يتجاوبُ في قلبي معَ النغم الخفا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فسِرتُ بهديك في دربي وبي ظمأُ المشتا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لمَنهلك الصافي العذب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أروَّي بـه أمنياتـي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9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يُروعني صخبُ البحرِ وصوتُ قصيف الرع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فآنسُ منك مع الفجر بفيض الرضى  وال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ea typeface="Simplified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فيا مُبدع الكون من يدري سواك بسرِّ  الو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فكم فيك يا ربُّ من سرً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ea typeface="Simplified Arabic"/>
              </a:rPr>
              <a:t>	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آياتٍ مُذهـلات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81680" y="0"/>
            <a:ext cx="2133720" cy="83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إلهي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َ إن أدعو فمالي سواك مجيبُ ندائ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حين أنوءُ بأثقالي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ي برضاك عزائ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228600" y="0"/>
            <a:ext cx="2209680" cy="82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طرحتُ مُناي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ea typeface="Simplified Arabic"/>
              </a:rPr>
              <a:t> وآمالي لديك وكلَ رجائ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أنت ملاذي ومآلي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ليك وفيـ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نجاتـ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09:49:50Z</dcterms:created>
  <dc:creator>SUZANNE.MD</dc:creator>
  <dc:description/>
  <dc:language>en-US</dc:language>
  <cp:lastModifiedBy>HANI SAFI</cp:lastModifiedBy>
  <dcterms:modified xsi:type="dcterms:W3CDTF">2003-05-18T13:12:15Z</dcterms:modified>
  <cp:revision>2</cp:revision>
  <dc:subject/>
  <dc:title>PowerPoint Presentation</dc:title>
</cp:coreProperties>
</file>